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055-10D2-4758-B8C6-37C09BAF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1CE-64CF-40EF-BD28-E9787434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E3D-5882-4448-8C11-399A8918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2B8-6F7A-48F1-8834-FE5FEE6B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77B51-4B53-446F-B17D-84ED16A1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68E9E-8483-4F73-AEFF-074D89F8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79B50-B0C0-49EF-9D0C-592020C3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0E4A2-CABA-49AE-A8CD-C1AC438B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53EE0-9CAF-41EC-9AF1-6B08A233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533E5-E0E4-4BE8-943A-BA756380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11F3C-481F-47BC-803D-43D6CE8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3DD-FDC2-44DA-80EA-B1AD7B98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122F7-6D97-4173-8305-492CA288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21913-AD34-42F4-95F6-01136038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FEF1C-A49F-48EA-B41C-BDE5A53A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92423-5215-4F7D-B7FB-2CF88250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D098B-5BFB-4982-AAD5-CA6120B5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CC4-8470-4130-9A59-D4692EF7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793-B3DE-4E42-87FF-3A5DBEB9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8BE-377F-4D49-8A95-F71B6B33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48A-5FAA-401D-99D6-EA5A0967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E74-9897-4213-A153-002C15C5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A60-69E7-45F5-B26A-4E7E02C6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359-4903-4BFB-916A-EA9FD79A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5F7F-C343-4788-BDBE-B40E5EBFCF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6811-A59C-40A8-A526-B9956FF1B8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Joshua: The New Leader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. 1:1 – 6: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s. 18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57800" y="1066680"/>
            <a:ext cx="3352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e Elevation Level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Jordan Valle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Jeri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38880" cy="4310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133720" y="0"/>
            <a:ext cx="444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Israelites March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round 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5362560" cy="6898320"/>
            <a:chOff x="0" y="0"/>
            <a:chExt cx="5362560" cy="6898320"/>
          </a:xfrm>
        </p:grpSpPr>
        <p:pic>
          <p:nvPicPr>
            <p:cNvPr id="148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8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846240" y="656604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3480" y="663408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3657240" y="3200400"/>
            <a:ext cx="251460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877000" y="2438280"/>
            <a:ext cx="3267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ossing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rd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380880"/>
            <a:ext cx="3429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harge To Joshua – 1:1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shua’s Command To The People – 1:10-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ying Jericho: Rahab’s Help -2:1-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4038480"/>
            <a:ext cx="3276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ing The Jordan River – 3:1-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emorial Monuments – 4:1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rk Moves -4:10-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ument at Gilgal – 4:19-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149400"/>
            <a:ext cx="4800600" cy="6706440"/>
            <a:chOff x="0" y="149400"/>
            <a:chExt cx="4800600" cy="6706440"/>
          </a:xfrm>
        </p:grpSpPr>
        <p:pic>
          <p:nvPicPr>
            <p:cNvPr id="156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149400"/>
              <a:ext cx="4800600" cy="63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443040" y="6280200"/>
              <a:ext cx="1354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520" y="6343560"/>
              <a:ext cx="213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4724280" y="457200"/>
            <a:ext cx="400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vents At Gilga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24080" y="1143000"/>
            <a:ext cx="4648320" cy="2895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52480" y="3124080"/>
            <a:ext cx="99540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81280"/>
            <a:ext cx="83808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3124080"/>
            <a:ext cx="3809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ected Circumcision – 5:1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ssover Kept &amp; Manna Ceases – 5:1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149400"/>
            <a:ext cx="4648320" cy="6706440"/>
            <a:chOff x="228600" y="149400"/>
            <a:chExt cx="4648320" cy="6706440"/>
          </a:xfrm>
        </p:grpSpPr>
        <p:pic>
          <p:nvPicPr>
            <p:cNvPr id="165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228600" y="149400"/>
              <a:ext cx="4648320" cy="63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562560" y="6280200"/>
              <a:ext cx="1311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880" y="6343560"/>
              <a:ext cx="20721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1676520" y="3200400"/>
            <a:ext cx="16239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rich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3581280"/>
            <a:ext cx="68580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62520" y="304920"/>
            <a:ext cx="49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quest of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ntral Hill Count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981080"/>
            <a:ext cx="3733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ince of Jehovah’s Army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:13 – 6: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Battle for Jericho – 6:6-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3429000"/>
            <a:ext cx="25909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– 6:1-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arch – 6:3-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hab Saved – 6:22-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e On The Rebuilder – 6:26,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f: 1 Kgs.16: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2590920" y="2590920"/>
            <a:ext cx="3962160" cy="1676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477120" y="2438280"/>
            <a:ext cx="138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42840" y="1676520"/>
            <a:ext cx="297180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38680" y="1447920"/>
            <a:ext cx="108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lgal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6680" y="227160"/>
            <a:ext cx="7162920" cy="638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28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0120" y="2514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Satellite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977240" cy="6091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895480" y="609480"/>
            <a:ext cx="1623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now Cap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0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4218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4495680"/>
            <a:ext cx="407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 - City of Pal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410080" y="3295800"/>
            <a:ext cx="2381400" cy="3562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838080" y="3733920"/>
            <a:ext cx="1381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7680" y="228600"/>
            <a:ext cx="4788000" cy="567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38680" y="838080"/>
            <a:ext cx="312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t Concept of How The Walls Fell Down A Sloping Rock Foundation, Considering Present Rem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Terry W. Benton</cp:lastModifiedBy>
  <dcterms:modified xsi:type="dcterms:W3CDTF">2005-01-08T00:07:28Z</dcterms:modified>
  <cp:revision>4</cp:revision>
  <dc:subject/>
  <dc:title>Joshua: The New Leader</dc:title>
</cp:coreProperties>
</file>